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320-3A4F-4289-B279-2BD205FD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E1B2-C4DD-4E26-9922-A807A143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8414-F2A8-4698-BBB6-37265F66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390C-7A74-46A8-92C2-EC90DE7F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0E69-AB08-4460-BDBB-D9BA3EAD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8A8C-C573-4A01-825F-4B3E0E77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7DFB-EAA9-40A3-95BE-93BD37E3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85AF-AA3B-49E4-8605-0E7BC444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9BE2-43EF-4614-A315-88E9626C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62A0-5649-4A47-BF49-C1F90679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61A1-68BA-431E-A7A7-71267F5D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771E-6539-468A-916D-40AE7C82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83A2-48BA-4951-99DD-B9D471FA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CF2D-93D8-4C25-B987-947E4052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A105-C174-4984-9009-6A0A26FB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D6DB-CAB9-4781-B52C-1FA6C65C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3C29-D14E-41F4-9783-CAC047CB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8AD1-73D5-448D-9C9E-05C034B3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C52B-AE16-42C6-AF17-44774D4D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9377-2200-459F-84B3-C0DC5E9D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E3F0-4284-42B7-AAC9-CA8C5FEA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9672-6342-4799-AE51-3A0DFAB4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0F63-8B1B-43AB-9974-C4DBEE27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54DE-16AD-4944-B8D0-AE101E73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3C3F-D136-4F9A-A587-0C988BA694C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F5B1-B61C-4730-A070-700147C0F46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v.rds.yahoo.com/_ylt=A0Je5XPifqJEKl8BY6qHBqMX;_ylu=X3oDMTBwanIybjRqBHBndANhdHdfaW1nX3Jlc3VsdARzZWMDc3I-/SIG=12kgtd342/EXP=1151586402/**http%3A//www.jeanne-sauve.cepeo.on.ca/societe/images/recyclage.gif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av.rds.yahoo.com/_ylt=A0Je5XE9f6JEpS0B94aHBqMX;_ylu=X3oDMTBwanIybjRqBHBndANhdHdfaW1nX3Jlc3VsdARzZWMDc3I-/SIG=123ma8s7r/EXP=1151586493/**http%3A//www.emagictricks.co.uk/images/Lp2859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av.rds.yahoo.com/_ylt=A0Je5XAPbqtEJYYBL1.HBqMX;_ylu=X3oDMTBwanIybjRqBHBndANhdHdfaW1nX3Jlc3VsdARzZWMDc3I-/SIG=11u4396fu/EXP=1152171919/**http%3A//www.ale-lyon.org/ImageEtiketNRJ.gif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av.rds.yahoo.com/_ylt=A0Je5XXacqtE.CYBt16HBqMX;_ylu=X3oDMTBwanIybjRqBHBndANhdHdfaW1nX3Jlc3VsdARzZWMDc3I-/SIG=12u3i6t66/EXP=1152173146/**http%3A//newsimg.bbc.co.uk/media/images/39114000/jpg/_39114577_petrol203.jpg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av.rds.yahoo.com/_ylt=A0Je5XJIc6tE1YcAWJ6HBqMX;_ylu=X3oDMTBwanIybjRqBHBndANhdHdfaW1nX3Jlc3VsdARzZWMDc3I-/SIG=12fppc03n/EXP=1152173256/**http%3A//www.ville-bondy.fr/environnement/image/poubelle1.jpg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5280" y="981000"/>
            <a:ext cx="560520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'environnemen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132000" y="2781360"/>
            <a:ext cx="3240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Exercic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vais au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e fois par sema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a mère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 verre et le plasti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’énergie : nous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 télé avant de sort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n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as la consommation d’ess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jette me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ans la poubel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2916360" y="1484280"/>
            <a:ext cx="38145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entre de recycl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71640" y="2492280"/>
            <a:ext cx="216072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4000" y="3500280"/>
            <a:ext cx="2808360" cy="505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économis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95640" y="4581360"/>
            <a:ext cx="180000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édu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08360" y="5516640"/>
            <a:ext cx="2016000" cy="433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éch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4005360"/>
            <a:ext cx="237672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éteign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Devoirs : rédac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éponds aux questions pour écrire la réda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Quels sont les grands problèmes d’environnement en généra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Qu’est-ce qu’on peut faire pour protéger l’environne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Qu’est-ce que tu fais à la mais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Qu’est ce que tu ne fais pa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(Qu’est-ce qu’il faudrait faire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Quels sont les grands problèmes de l’environnement 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’effet de serre – les CF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 réchauffement de la planè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 pollution de l’ea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s pluies aci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 pollution atmosphéri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s espèces en voie de disparition. Exemple: le pan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27640" y="5445000"/>
            <a:ext cx="1224000" cy="1068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38800" y="5452920"/>
            <a:ext cx="122364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Durée de vie des deche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35640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aissé dans les rues ou mis en décharge, le déchet vit encore ! 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La durée de vie d'un déchet dépend bien sûr de sa composition mais aussi des actions que nous faisons tous les jours.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e déchet qui pose le moins de problème, qui ne pollue pas et qui coûte le moins cher, c’est donc celui que l’on ne produit pas !!!!!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-688824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765000"/>
            <a:ext cx="85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570120" y="981000"/>
          <a:ext cx="546588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0120" y="981000"/>
                    <a:ext cx="546588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Les trois “R” de l’environne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édui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 peut réduire…la pollution…la consommation… / le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éutilis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 peut réutiliser le / la / le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ecycl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 peut recycler le / la /le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Au centre de recyclage,</a:t>
            </a:r>
            <a:br>
              <a:rPr sz="4000"/>
            </a:b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il y a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Des containers pour le plastique, le polystyrè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Des containers pour le papier, le cart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Des containers pour l’aluminium, le f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Des containers pour les p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Des containers pour les déchets organiqu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Go to fullsize image"/>
          <p:cNvPicPr/>
          <p:nvPr/>
        </p:nvPicPr>
        <p:blipFill>
          <a:blip r:embed="rId1"/>
          <a:stretch/>
        </p:blipFill>
        <p:spPr>
          <a:xfrm>
            <a:off x="6877080" y="4292640"/>
            <a:ext cx="1000080" cy="66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Go to fullsize image"/>
          <p:cNvPicPr/>
          <p:nvPr/>
        </p:nvPicPr>
        <p:blipFill>
          <a:blip r:embed="rId2"/>
          <a:stretch/>
        </p:blipFill>
        <p:spPr>
          <a:xfrm>
            <a:off x="3276720" y="5516640"/>
            <a:ext cx="15112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Qu’est-ce que tu fais pour protéger l’environnement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fais du recyclag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recycle le papi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recycle le plast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recycle le ver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recycle les boîtes en mé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79736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380360" y="213372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88000" y="4797360"/>
            <a:ext cx="505080" cy="180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148360" y="2924280"/>
            <a:ext cx="3240000" cy="649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8360" y="3573360"/>
            <a:ext cx="0" cy="18003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35640" y="3429000"/>
            <a:ext cx="2016000" cy="3603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3789360"/>
            <a:ext cx="0" cy="1008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88000" y="4076640"/>
            <a:ext cx="20160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4076640"/>
            <a:ext cx="0" cy="64764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0360" y="4869000"/>
            <a:ext cx="0" cy="18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0360" y="6742080"/>
            <a:ext cx="17272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67640" y="6453360"/>
            <a:ext cx="71280" cy="28872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’économise l’électricité. Par exemple j’éteins les lumières quand je quitte une piè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’économise l’eau. Par exemple, je ferme le robinet quand je me la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’économise l’essence. Par exemple, j’utilise le b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1150920" cy="1120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708360" y="3716280"/>
            <a:ext cx="1152720" cy="1119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356000" y="5373720"/>
            <a:ext cx="1224000" cy="1144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6804000" y="5373720"/>
            <a:ext cx="1224000" cy="1160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724360" y="5805360"/>
            <a:ext cx="935280" cy="360360"/>
          </a:xfrm>
          <a:prstGeom prst="rightArrow">
            <a:avLst>
              <a:gd name="adj1" fmla="val 50000"/>
              <a:gd name="adj2" fmla="val 6488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A la maison, nous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recyclons le papier et le ver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voyageons à pied et en bus souv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réduisons la consommation de plasti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MA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ne recyclons pas les canettes en aluminiu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ne réutilisons pas les sacs en plasti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n’éteignons pas les lumières quand nous sortons d’une piè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Perpetua Titling MT"/>
              </a:rPr>
              <a:t>A ton avis, qu’est-ce qu’il </a:t>
            </a: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faudrait</a:t>
            </a:r>
            <a:r>
              <a:rPr b="0" lang="en-GB" sz="4000" spc="-1" strike="noStrike">
                <a:solidFill>
                  <a:srgbClr val="e5ffff"/>
                </a:solidFill>
                <a:latin typeface="Perpetua Titling MT"/>
              </a:rPr>
              <a:t> faire pour plus proteger l’environnement 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mon avis, il faudrait plus recycler tous les déche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l faudrait aussi économiser l’énergie en général: l’électricité et l’ess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 Terre n’est pas une poubelle ! Il ne faudrait pas jeter les déchets par ter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64000" y="4437000"/>
            <a:ext cx="720720" cy="684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27640" y="4437000"/>
            <a:ext cx="865080" cy="644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95640" y="5950080"/>
            <a:ext cx="666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12:41:04Z</dcterms:created>
  <dc:creator>Virginie Passerat</dc:creator>
  <dc:description/>
  <dc:language>en-US</dc:language>
  <cp:lastModifiedBy>Ministry of Education</cp:lastModifiedBy>
  <dcterms:modified xsi:type="dcterms:W3CDTF">2009-04-27T22:20:52Z</dcterms:modified>
  <cp:revision>67</cp:revision>
  <dc:subject/>
  <dc:title>Slide 1</dc:title>
</cp:coreProperties>
</file>